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6B4-BA61-4B29-8C06-65A908D2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0E1-8756-4B5C-9253-E7157EBF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895-6AB7-4612-93A3-7DB6370B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D22-74AB-4FDE-B268-5D8F9C92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DF74-73E7-487C-997B-33FE4FC8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5970-EEDD-4599-BE09-811FE4C6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C154-74E2-4C07-85B8-81EE686B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97B1-A8D0-48B9-9DA6-5D6E72B3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830D-261B-41CE-A116-BD9E0ECB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C6A1-D387-4A21-AE4B-CCE6FED6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F883-9FEE-4C3B-B6DF-559599B3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8F1-36D2-4B7E-AF62-15FCDF92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919A-B779-4ADC-96EC-2BF37D7A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11D2-BBA7-4238-A951-A724FFC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945E-4792-47C4-B5AA-D5B57136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E386-84C6-4306-B38A-9CB58955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22DA-A072-4A93-8F80-F8787AF5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66D-7D11-45C8-B45D-9A0F6F35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DA6-7F2F-4C96-8D11-E97C034F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8FA-9926-4ED2-B490-676A5989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2A4-FB17-44C6-AC6E-38BB2BE7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86E-4DBA-4F25-8A3E-DF12A5CC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F6F-5C68-40E0-9417-226ED776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3E9-2602-4252-9DFA-48B84D46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F7BF-1A4A-4EE0-BA00-290916F24A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D01C-D659-4202-846B-90193EE5FB1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Legge 199/201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3428640"/>
            <a:ext cx="7802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zioni virtuose e critic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8280" y="27219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69120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GRAZ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onica Accog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lai CGIL Lec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249228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epressive (attraverso le forze dell’ordine e attività di contrasto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otenziamento della Rete del lavoro Agricolo di Qualità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-8280" y="27075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legge individua percorsi per aggredire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fruttamento del lavoro e intermediazione illec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3068640"/>
            <a:ext cx="8001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e principio incontrerebbe gli auspici della Regionale (Puglia) 28/2006 e del Protocollo Sperimentale “Cura-legalità e uscita dal Ghett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isorse:POR 2014/20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001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potesi:individuazione di un ”soggetto regionale“ di contrasto al lavoro nero e capora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NCONTRO DOMANDA/OFFERTA DI LAVOR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stituzione presso i CpI di “sezione per il mercato del lavoro in agricoltura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azione sportelli mobili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rmazione degli operatori dei C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CCOGLI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delle risorse (legge di bilancio regionale Puglia 2016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risorse previste nel Piano Regionale per le Politiche Abitative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“campi di Ospitalita” (Protocollo di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Enti bilaterali del settore Agricolo (CASSA AMICA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RASPOR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ndi FESR (Asse 7 trasporto pubblico local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stituzione di Protocolli specifici con i Comuni (Protocollo di Lec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evisione di un sistema incentivante per le imprese che utilizzano trasporto pubbl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EDUCAZIONE ALLA LEGALIT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rt. 1 Legge regionale 28/2006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tocolli d’intesa tra pubbliche amministrazioni e OO.DD. e OO.S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di monitoraggio degli indici di congruità in agricoltura (regolamento n. 31/2009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76500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rotocollo d’Intesa Lec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tato dell’arte e criti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ttività sindacali FLAI CGIL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(oltre la Legg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ità “Ancora in campo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getto “Formazione SPRAR E CAS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15:38:31Z</dcterms:created>
  <dc:creator>Monica</dc:creator>
  <dc:description/>
  <dc:language>en-US</dc:language>
  <cp:lastModifiedBy>Maria Carmela Macri</cp:lastModifiedBy>
  <dcterms:modified xsi:type="dcterms:W3CDTF">2017-12-12T10:49:58Z</dcterms:modified>
  <cp:revision>6</cp:revision>
  <dc:subject/>
  <dc:title>Legge 199/2016</dc:title>
</cp:coreProperties>
</file>